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3CF7-4B6F-4752-AAF7-0A6874A0713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gdom Protist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 The Catch-All Kingdom” Protozo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0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moeb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seudopodia – most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toplasmic strea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t other prot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ological roles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diolaria – t4ests made form si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s like amebic dys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using cil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llicle, oral groove, gullet, macronucleus, micro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c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ylum 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,5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e using flage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st free-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use disease – zooflagell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frican trypanosomiasis – sleeping sickness – tsetse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hagas Disease –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 – sand 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iard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setse fly – sleeping sickness v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Kissing Bu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ishmania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sc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ve independently – named for mechanism of m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5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heterotro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-living or parasi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apable of asexual reproduction through binary or multiple 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eproduce sexually through conju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lum 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,000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in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disease like toxoplasmosis and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ow malaria cycle!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ina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izogon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exual reproduction in multiple fission, as in 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based on HOW they 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ing this by looking at phyloge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 Phyla of Protozoan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rcod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lioph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oomastig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orozo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ological mechanisms, like eyespo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cy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nucle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olution of Proti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karyotes – 3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ukaryotes – 1.5 billion years a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ozoan thought to be descendents of first eukary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ymbiotic The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9837-CA2A-4BE1-87F2-D67DB8EA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0F3E-6E4A-45FF-8D6F-2C6F1244F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CBAB-F1D8-4104-8CCE-FB265F138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4214-F45C-432E-8A47-C43A625A9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366E0-294B-4B29-AA6F-B2EF6551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D1A2-A2F0-45A3-9DC0-EA3A7CE8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3BD5-9D5A-465C-97F4-E51824132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785F9-1EAE-4CDD-A840-AF7CD5FB0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5E58-9FD3-4CE2-A196-A413BFC4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F5AF7-A547-47FF-8F95-71383CA76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BC32F-CDF3-4D96-A68E-662E1487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7354-EC8B-4AA2-BC66-946C6ACC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F44F-1344-4DF1-AE8C-4A6D8AC3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61323-E22D-4575-989F-BB332B1E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B7C2-6F48-49FD-8678-6E8EF6DD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6D6F-9FED-400F-B7DB-9C8A44938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784AF-CC66-4B2D-949F-5FD8E91A2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521A-BBF8-49CE-841B-85C5CB9D6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0740C-2178-4F60-A4E2-11466727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0276-7248-4065-B543-D93B9D5F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1BCF-1113-4F9E-AA61-B56E1BDB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FA21-3644-4903-BE08-139CA184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AFA9-C56B-4C2C-AE4E-CF3B9215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51EE-FD95-493A-B129-067C9EE6B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931BF-2C31-4E0A-9A23-AF077B6258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53B4-93BE-418A-B1D8-4641097E5F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br>
              <a:rPr sz="54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Kingdom Protista</a:t>
            </a:r>
            <a:br>
              <a:rPr sz="8000"/>
            </a:br>
            <a:r>
              <a:rPr b="0" lang="en-US" sz="8000" spc="-1" strike="noStrike">
                <a:solidFill>
                  <a:srgbClr val="cc0099"/>
                </a:solidFill>
                <a:latin typeface="Baskerville Old Face"/>
              </a:rPr>
              <a:t>“  The Catch-All Kingdom” Protozoans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ndosymbiotic Theory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0" name="Picture 5" descr="endosymbiosisnice2"/>
          <p:cNvPicPr/>
          <p:nvPr/>
        </p:nvPicPr>
        <p:blipFill>
          <a:blip r:embed="rId1"/>
          <a:stretch/>
        </p:blipFill>
        <p:spPr>
          <a:xfrm>
            <a:off x="457200" y="1600200"/>
            <a:ext cx="83818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13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0066"/>
                </a:solidFill>
                <a:latin typeface="Arial"/>
              </a:rPr>
              <a:t>Phylums…</a:t>
            </a:r>
            <a:endParaRPr b="0" lang="en-US" sz="8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arcod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oeb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eudopodia – most mo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ytoplasmic stream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t other proti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logical roles: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rams – tests made from caco3 – sink to bottom and make limestone and chalk depos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diolaria – t4ests made form sio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s like amebic dysen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5" descr="phylumsarcodina"/>
          <p:cNvPicPr/>
          <p:nvPr/>
        </p:nvPicPr>
        <p:blipFill>
          <a:blip r:embed="rId1"/>
          <a:stretch/>
        </p:blipFill>
        <p:spPr>
          <a:xfrm>
            <a:off x="1447920" y="1282680"/>
            <a:ext cx="6629400" cy="45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Ciliopho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using cil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llicle, oral groove, gullet, macronucleus, micronucle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meci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5" descr="paramecium1"/>
          <p:cNvPicPr/>
          <p:nvPr/>
        </p:nvPicPr>
        <p:blipFill>
          <a:blip r:embed="rId1"/>
          <a:stretch/>
        </p:blipFill>
        <p:spPr>
          <a:xfrm>
            <a:off x="914400" y="676440"/>
            <a:ext cx="6443640" cy="45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Zoomastigi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,5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using flagel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free-liv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use disease – zooflagell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frican trypanosomiasis – sleeping sickness – tsetse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agas Disease – kissing bu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ishmaniasis – sand f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ardi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5" descr="tsetse2"/>
          <p:cNvPicPr/>
          <p:nvPr/>
        </p:nvPicPr>
        <p:blipFill>
          <a:blip r:embed="rId1"/>
          <a:stretch/>
        </p:blipFill>
        <p:spPr>
          <a:xfrm>
            <a:off x="2438280" y="1752480"/>
            <a:ext cx="4800600" cy="409284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The tsetse fly – sleeping sickness vector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he Kissing Bu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5" descr="image001"/>
          <p:cNvPicPr/>
          <p:nvPr/>
        </p:nvPicPr>
        <p:blipFill>
          <a:blip r:embed="rId1"/>
          <a:stretch/>
        </p:blipFill>
        <p:spPr>
          <a:xfrm>
            <a:off x="1828800" y="1752480"/>
            <a:ext cx="60958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Leishmaniasi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Picture 5" descr="figure1"/>
          <p:cNvPicPr/>
          <p:nvPr/>
        </p:nvPicPr>
        <p:blipFill>
          <a:blip r:embed="rId1"/>
          <a:stretch/>
        </p:blipFill>
        <p:spPr>
          <a:xfrm>
            <a:off x="1371600" y="1752480"/>
            <a:ext cx="610560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haracteristic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cel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independently – named for mechanism of mov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65,000 spe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st heterotroph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ree-living or parasiti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 capable of asexual reproduction through binary or multiple fi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reproduce sexually through conjug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hylum Sporozo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,000 spec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ried in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use disease like toxoplasmosis and mal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malaria cycle!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5" descr="malaria_LifeCycl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pconjugation"/>
          <p:cNvPicPr/>
          <p:nvPr/>
        </p:nvPicPr>
        <p:blipFill>
          <a:blip r:embed="rId1"/>
          <a:stretch/>
        </p:blipFill>
        <p:spPr>
          <a:xfrm>
            <a:off x="609480" y="1676520"/>
            <a:ext cx="8077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nar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s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Prot016b"/>
          <p:cNvPicPr/>
          <p:nvPr/>
        </p:nvPicPr>
        <p:blipFill>
          <a:blip r:embed="rId1"/>
          <a:stretch/>
        </p:blipFill>
        <p:spPr>
          <a:xfrm>
            <a:off x="380880" y="1371600"/>
            <a:ext cx="3181320" cy="4762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7" descr="olih023p"/>
          <p:cNvPicPr/>
          <p:nvPr/>
        </p:nvPicPr>
        <p:blipFill>
          <a:blip r:embed="rId2"/>
          <a:stretch/>
        </p:blipFill>
        <p:spPr>
          <a:xfrm>
            <a:off x="4191120" y="2209680"/>
            <a:ext cx="42861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chizogony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Asexual reproduction in multiple fission, as in Malari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assifica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urrently based on HOW they MOV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Reviewing this by looking at phylogen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Arial"/>
              </a:rPr>
              <a:t>4 Phyla of Protozoans</a:t>
            </a:r>
            <a:br>
              <a:rPr sz="4000"/>
            </a:b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arcod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iliophor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Zoomastigin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Sporozo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Adapt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Physiological mechanisms, like eyespo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m cys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Multiple nuclei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Evolution of Protist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karyotes – 3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ukaryotes – 1.5 billion years ag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tozoan thought to be descendents of first eukaryo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osymbiotic The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13:08:46Z</dcterms:created>
  <dc:creator>teacher</dc:creator>
  <dc:description>Kingdom Protista  “  The Catch-All Kingdom” Protozoans</dc:description>
  <cp:keywords>Kingdom Protista  “  The Catch-All Kingdom” Protozoans</cp:keywords>
  <dc:language>en-US</dc:language>
  <cp:lastModifiedBy>RomaK</cp:lastModifiedBy>
  <dcterms:modified xsi:type="dcterms:W3CDTF">2015-09-04T10:52:44Z</dcterms:modified>
  <cp:revision>9</cp:revision>
  <dc:subject/>
  <dc:title>Kingdom Protista  “  The Catch-All Kingdom” Protozoans</dc:title>
</cp:coreProperties>
</file>